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B861-B1D8-4FB3-8D3E-B64536EE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F4DC-036D-4A87-9DD5-7FC97DF22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FB91-1E30-4C7F-B7BF-DE950A0E1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4BE6-CE35-438E-9B71-25FEFDA3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2FB3-1DA5-4EFA-B44D-A07A7995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743F-BC88-423C-ACCD-23E99F52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65F2-7B04-4B58-A9C8-A94BE7288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EEF0-1BF5-4458-8B94-658773BC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D99A-A8AF-46EB-AFE8-0F521698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C472-926C-4A5F-8DD5-15F078EDB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1ED0-4A7A-48C7-8F9F-CA8D34D9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641E-E08F-4273-9D2D-1077617CD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3EA-2863-4C95-A017-BB1C75D5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A6A-85AD-4E8E-A9A2-D660DF7FE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6E7-52EE-450F-AAF5-FDD47DEF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8EA4-F385-45BF-B763-F189BCF15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9001-640A-4C4B-8B6E-5E92835CD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C220-DE47-4FD5-9647-E5601C8247D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21DE-4524-4417-ADDB-4752AAE884D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1D2B-DE4C-4129-8E21-6E94DBD4D0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E38C-5407-4D82-B879-676233DC46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7357-8646-4B72-B8DB-E3A6020A1A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0635-A606-4425-A7ED-268B3E5C941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1723-4D61-4D3D-A6D0-E200DFD1DC4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14E6-F1B7-462F-9115-4DEAA83FBB6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BF60-C6CD-4C15-A889-871CBD2727D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91D5-E951-4BD0-A236-C65788D4498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C120-5323-4C68-8083-0AAC99902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5721-17DD-4EA8-B304-D5E2196A323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EBD4-72EE-4E30-84FB-970DBEF52FA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9A02-DA4B-482C-A7D5-FEDCB331BDA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96CB-6452-429A-999E-3E8338E455C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2D4A-F935-428F-B01E-7660150F084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587-0D03-4CEB-B486-95CE92E97AB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38F-44DE-4E48-B109-1D03E782F21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238-3CA3-455B-80C7-1C88D1CBD37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79D-0F6F-49EE-843E-D734088F80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EA4-DFF0-48E7-B8B4-3CE490DF9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6C91-5540-4660-B5F3-00CA86B52E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B14-7F3D-42B8-9120-49BCEAB0F9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8E2-5F8A-4D29-95E3-38EB7BEB2F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977-8DE3-48B2-A4CC-242F1B82A6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C20-96E4-4D81-8850-0604CC85B4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653-4D5F-48E5-91D5-D4B81ECC11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8D6-E5C2-42B5-9AB0-ECBC87A95F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4A2-A917-40C7-9190-E524ED65E1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B474-00D5-4C1B-89B8-2ADA56B0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2DC2-FF91-4785-9E48-BD7F3DC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6073-5EBA-455E-88CC-F737C695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CEFB-72E1-4DE3-B4E5-4E6DE96C31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C9FE-8622-42B1-92F8-E506BB81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A2D8-45C0-446C-B4E8-0725B4A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78C4-9062-4E26-A81A-C2EEF5ED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B0EB-C1E8-4EB5-917D-8689E258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04B8-08C2-4C51-B6CC-3C6DB7D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44FB-D240-44BF-B02C-B3C548E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E18F-3211-4854-B025-B099CAC7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B8A6-8A86-46DB-8F3A-119026B4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3912-48D9-4366-9736-9892D854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0F93-863B-40B8-972E-4F61B4A0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CD92-F91D-4365-BBD0-1726F1842E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FA27-6C88-4CCB-AB04-6223187F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1CB2-0ACD-444F-970B-8CB28336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F24E-0B3D-4D5B-94CB-872D89A9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DF05-8E5C-4DFC-BAF0-F4780478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D6A8-8E77-48AD-ABDA-5D908F3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262A-E742-439F-87CB-BCD8E81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B871-6726-48E7-847A-10611F5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C92D-DD83-4E89-9D4F-F4DCCF7D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1724-0307-4568-9563-AEED4772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F584B-BB1F-4D04-BF0F-FE38BBA3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A90B-FB37-485D-A750-E0C9249476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E58E-A2B4-44F3-9291-3B416DD0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A0F2-09FC-4C53-9932-CE04F1FF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0BDD-8D5A-40AF-8C21-D7FC8CF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B9FE0-68EE-41DD-831B-2E429EFE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0E6F-564B-4B19-957E-730C3014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9E66-D7F1-4F34-B25A-DE457B00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1AC6B-FE4B-4B86-947C-72EBC9C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B4C3A-54E0-4A93-8ED0-84B20B8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BAC42-24A8-4D00-AF22-4F7DE77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F91D-BF95-4205-BF4D-D192CBBE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0C5F-9687-411E-AE2E-1C845128AC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15D8-26F6-4ECA-88F6-1C827C9B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F42A-2003-48E7-9A99-CEB815DD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C8C1-39E7-454B-AC6D-55B91773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DA18-6B4B-4A2D-8384-91151200C6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E597-C1B5-48F8-B12D-BFE9CE77BE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5896-DDB4-4F3F-A80B-E997B81C57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0705-6A9A-4E09-A881-DE0C3D82FC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9CEF-19D9-4A26-A77A-DEF977901B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AA84-9034-4EC9-AB20-909DE07823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085F-8F1B-4E6E-AAAD-997B639897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66AC-61F8-44B9-8CB0-0508BBA39B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Rectangle 6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pass time through to invo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Time Track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0" name="Picture 4" descr="C:\Users\DPEMBR~1\AppData\Local\Temp\SNAGHTML1bf38d4.PNG"/>
          <p:cNvPicPr/>
          <p:nvPr/>
        </p:nvPicPr>
        <p:blipFill>
          <a:blip r:embed="rId2"/>
          <a:stretch/>
        </p:blipFill>
        <p:spPr>
          <a:xfrm>
            <a:off x="1687680" y="2514600"/>
            <a:ext cx="5768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time spent by a single person performing a single service on a single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3" name="Picture 4" descr="C:\Users\DPEMBR~1\AppData\Local\Temp\SNAGHTML2118e54.PNG"/>
          <p:cNvPicPr/>
          <p:nvPr/>
        </p:nvPicPr>
        <p:blipFill>
          <a:blip r:embed="rId2"/>
          <a:stretch/>
        </p:blipFill>
        <p:spPr>
          <a:xfrm>
            <a:off x="934920" y="3200400"/>
            <a:ext cx="7274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55" name="Rectangle 5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Picture 4" descr="C:\Users\DPEMBR~1\AppData\Local\Temp\SNAGHTML21471fe.PNG"/>
          <p:cNvPicPr/>
          <p:nvPr/>
        </p:nvPicPr>
        <p:blipFill>
          <a:blip r:embed="rId2"/>
          <a:stretch/>
        </p:blipFill>
        <p:spPr>
          <a:xfrm>
            <a:off x="433440" y="1828800"/>
            <a:ext cx="82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 txBox="1"/>
          <p:nvPr/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ime marked “billable” is transfer to the next Invoice for that Customer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9" name="Picture 4" descr="C:\Users\DPEMBR~1\AppData\Local\Temp\SNAGHTML2157fe3.PNG"/>
          <p:cNvPicPr/>
          <p:nvPr/>
        </p:nvPicPr>
        <p:blipFill>
          <a:blip r:embed="rId2"/>
          <a:stretch/>
        </p:blipFill>
        <p:spPr>
          <a:xfrm>
            <a:off x="1871640" y="2590920"/>
            <a:ext cx="5400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ws hours each employee worked for each Customer or Jo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62" name="Picture 4" descr="C:\Users\DPEMBR~1\AppData\Local\Temp\SNAGHTML21a91be.PNG"/>
          <p:cNvPicPr/>
          <p:nvPr/>
        </p:nvPicPr>
        <p:blipFill>
          <a:blip r:embed="rId2"/>
          <a:stretch/>
        </p:blipFill>
        <p:spPr>
          <a:xfrm>
            <a:off x="1981080" y="2819520"/>
            <a:ext cx="51818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makes an expense Billable, Not Billable, or Bill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add reimbursable Expenses, Items, Mileage, and Time to Invoic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wo-sided Items to track reimbursable expen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wo-sided Items to track subcontracte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Time Track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ss billable time onto an Invoi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reports to analyze timesheet dat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makes an expense Billable, Not Billable, or Bill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add reimbursable Expenses, Items, Mileage, and Time to Invoic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wo-sided Items to track reimbursable expen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wo-sided Items to track subcontracte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Time Track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ss billable time onto an Invoi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reports to analyze timesheet dat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5" descr="C:\Users\DPEMBR~1\AppData\Local\Temp\SNAGHTML1f6b16d.PNG"/>
          <p:cNvPicPr/>
          <p:nvPr/>
        </p:nvPicPr>
        <p:blipFill>
          <a:blip r:embed="rId1"/>
          <a:stretch/>
        </p:blipFill>
        <p:spPr>
          <a:xfrm>
            <a:off x="2797200" y="1828800"/>
            <a:ext cx="6126120" cy="4191120"/>
          </a:xfrm>
          <a:prstGeom prst="rect">
            <a:avLst/>
          </a:prstGeom>
          <a:ln w="0">
            <a:noFill/>
          </a:ln>
        </p:spPr>
      </p:pic>
      <p:pic>
        <p:nvPicPr>
          <p:cNvPr id="1027" name="Rectangle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 txBox="1"/>
          <p:nvPr/>
        </p:nvSpPr>
        <p:spPr>
          <a:xfrm>
            <a:off x="380520" y="1676160"/>
            <a:ext cx="2514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ickBooks allows you to pass expenses through to customers for reimburs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, record the expen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Oval 12"/>
          <p:cNvSpPr/>
          <p:nvPr/>
        </p:nvSpPr>
        <p:spPr>
          <a:xfrm>
            <a:off x="5334120" y="4562640"/>
            <a:ext cx="18288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ss the expenses through the invoi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32" name="Picture 5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710160" cy="1622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C:\Users\DPEMBR~1\AppData\Local\Temp\SNAGHTML1f96947.PNG"/>
          <p:cNvPicPr/>
          <p:nvPr/>
        </p:nvPicPr>
        <p:blipFill>
          <a:blip r:embed="rId3"/>
          <a:stretch/>
        </p:blipFill>
        <p:spPr>
          <a:xfrm>
            <a:off x="3809880" y="3200400"/>
            <a:ext cx="5227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Rectangle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C:\Users\DPEMBR~1\AppData\Local\Temp\SNAGHTML1a0dc62.PNG"/>
          <p:cNvPicPr/>
          <p:nvPr/>
        </p:nvPicPr>
        <p:blipFill>
          <a:blip r:embed="rId2"/>
          <a:stretch/>
        </p:blipFill>
        <p:spPr>
          <a:xfrm>
            <a:off x="1003320" y="1638360"/>
            <a:ext cx="7137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Item used on both sales and purchase types of forms is commonly called a “Two-Sided Item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sible uses of two-sided Items includ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imbursable Expens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ustom Ordered Part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ubcontracted Lab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st of Goods Sold post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5" descr=""/>
          <p:cNvPicPr/>
          <p:nvPr/>
        </p:nvPicPr>
        <p:blipFill>
          <a:blip r:embed="rId1"/>
          <a:stretch/>
        </p:blipFill>
        <p:spPr>
          <a:xfrm>
            <a:off x="3443400" y="1828800"/>
            <a:ext cx="5587920" cy="4038480"/>
          </a:xfrm>
          <a:prstGeom prst="rect">
            <a:avLst/>
          </a:prstGeom>
          <a:ln w="0">
            <a:noFill/>
          </a:ln>
        </p:spPr>
      </p:pic>
      <p:pic>
        <p:nvPicPr>
          <p:cNvPr id="1039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91680" cy="15732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 txBox="1"/>
          <p:nvPr/>
        </p:nvSpPr>
        <p:spPr>
          <a:xfrm>
            <a:off x="456840" y="167652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tomatically track the revenue and costs for Custom Order It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stom Orders are items not held in invento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Oval 10"/>
          <p:cNvSpPr/>
          <p:nvPr/>
        </p:nvSpPr>
        <p:spPr>
          <a:xfrm>
            <a:off x="3352680" y="3657600"/>
            <a:ext cx="373392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 txBox="1"/>
          <p:nvPr/>
        </p:nvSpPr>
        <p:spPr>
          <a:xfrm>
            <a:off x="457200" y="167616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sided items allow you to pass subcontractor costs through to Invoic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reports showing the profitability of subcontracte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4740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report shows all of the billable expenses and Items that you haven’t passed through to Invo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47" name="Picture 4" descr="C:\Users\DPEMBR~1\AppData\Local\Temp\SNAGHTML20d2ea8.PNG"/>
          <p:cNvPicPr/>
          <p:nvPr/>
        </p:nvPicPr>
        <p:blipFill>
          <a:blip r:embed="rId2"/>
          <a:stretch/>
        </p:blipFill>
        <p:spPr>
          <a:xfrm>
            <a:off x="800280" y="3352680"/>
            <a:ext cx="75438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05:35:19Z</dcterms:created>
  <dc:creator>The Sleeter Group, Inc.</dc:creator>
  <dc:description/>
  <dc:language>en-US</dc:language>
  <cp:lastModifiedBy>Deborah Pembrook</cp:lastModifiedBy>
  <dcterms:modified xsi:type="dcterms:W3CDTF">2011-12-09T05:32:05Z</dcterms:modified>
  <cp:revision>103</cp:revision>
  <dc:subject/>
  <dc:title>Chapter 1 Pass-Throughs </dc:title>
</cp:coreProperties>
</file>